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23.jpeg" ContentType="image/jpeg"/>
  <Override PartName="/ppt/media/image22.jpeg" ContentType="image/jpeg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98B-F85B-4A69-B86B-59B2C668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5C5-0647-454D-A68D-98E0C5F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611-5168-4962-8F88-5327294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CE3-C54E-498D-9F2F-B69DF375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D4A-3C90-4916-B0FD-34B5966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FC4F-6D0E-474C-968D-3271EE1D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98EE-859A-43BF-A641-16BDC2C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479-676D-4473-927F-A832B59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567C-1046-4CD0-8BD5-71949A8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DE8-7C5C-42E8-9509-ADE0236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6872-F0FD-47AE-BBE2-2F1F615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01F-7DA1-4637-ACE3-10F10D0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16B2-F323-4211-A035-C1DBB15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BBA1-4BBE-4331-A4D5-66633C1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894A-61AF-42E9-889C-D6582BB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DDF8-AB00-4104-BFD8-4B9AD232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3A0-D2C5-47BF-BB5D-484BBF2D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50F-E683-4564-B930-FBFF8D94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118-A681-4FF6-80E0-8E313816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485-802D-41C9-93E5-44CB960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CD7-3E7E-48F4-9761-53DB3AE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94E-F04A-4542-95BD-CDFE647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140-CDED-4C7A-8174-50C03E46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CBD-1FCF-4B0E-AB65-39EBC20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BEE2-B2AE-47AB-A7AE-D2A6D9D41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C202-8A46-497A-83CD-D73B772677E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ri Ander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mond (n=2.4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Rectangle 10"/>
          <p:cNvGraphicFramePr/>
          <p:nvPr/>
        </p:nvGraphicFramePr>
        <p:xfrm>
          <a:off x="1600200" y="3773520"/>
          <a:ext cx="2286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7352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606680" y="4876920"/>
          <a:ext cx="242568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6680" y="4876920"/>
                    <a:ext cx="2425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happens when light travels from less to more dense material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93640" y="2057400"/>
            <a:ext cx="359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encounters the boundary, it is partially reflected and partially transmit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travels from air to water, it slows d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slows down, the ray bends towards the 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the light ray makes with the normal in the water is less than the angle in a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267080" y="1981080"/>
          <a:ext cx="4438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43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happens when light travels from more to less dense material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93640" y="2057400"/>
            <a:ext cx="3597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encounters the boundary, it is partially reflected and partially transmit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ight travels from water to air, it speeds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speeds up, the ray bends away from the 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the light ray makes with the normal in the water is greater than the angle in a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419720" y="2057400"/>
          <a:ext cx="4476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57400"/>
                    <a:ext cx="4476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arent Dep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4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ange in the path of the ray causes the perception that the object is not as far down as it truly 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F26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nell’s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light travels to a medium with a higher n, it slows down and bends toward the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nell’s Law to determine the angle of ref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ngles are measured from the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914400" y="4419720"/>
          <a:ext cx="38862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419720"/>
                    <a:ext cx="38862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5486400" y="1981080"/>
          <a:ext cx="33717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33717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light is traveling from air to glass (n=1.5) and hits the glass at an angle of 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normal, what angle will the refracted ray make with the normal in the wat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676520" y="365760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019920" y="3429000"/>
            <a:ext cx="2361960" cy="1770480"/>
            <a:chOff x="6019920" y="3429000"/>
            <a:chExt cx="2361960" cy="1770480"/>
          </a:xfrm>
        </p:grpSpPr>
        <p:sp>
          <p:nvSpPr>
            <p:cNvPr id="161" name=""/>
            <p:cNvSpPr/>
            <p:nvPr/>
          </p:nvSpPr>
          <p:spPr>
            <a:xfrm>
              <a:off x="6019920" y="441972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15000" y="389268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19320" y="4800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la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34290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0800" y="3429000"/>
              <a:ext cx="685800" cy="99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086600" y="4419720"/>
            <a:ext cx="30492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03520" y="4191120"/>
          <a:ext cx="329724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4191120"/>
                    <a:ext cx="329724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light is traveling from water (n=1.33) to air and hits the air at an angle of 4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normal, what angle will the refracted ray make with the normal in the wat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676520" y="365760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5880" y="3581280"/>
            <a:ext cx="99072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19920" y="3429000"/>
            <a:ext cx="2364480" cy="1981080"/>
            <a:chOff x="6019920" y="3429000"/>
            <a:chExt cx="2364480" cy="1981080"/>
          </a:xfrm>
        </p:grpSpPr>
        <p:sp>
          <p:nvSpPr>
            <p:cNvPr id="175" name=""/>
            <p:cNvSpPr/>
            <p:nvPr/>
          </p:nvSpPr>
          <p:spPr>
            <a:xfrm>
              <a:off x="6019920" y="441972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15000" y="389268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0760" y="48006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86600" y="34290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86600" y="4419720"/>
              <a:ext cx="609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636560" y="4267080"/>
          <a:ext cx="35449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6560" y="4267080"/>
                    <a:ext cx="35449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otal Internal Refle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light goes from a more dense to a less dense material, none of the light passes into the less dense 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light reflects into the more dense 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critical ang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581280" cy="36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critical angle of incidence, the angle of refraction is 9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791320" y="3124080"/>
            <a:ext cx="2364480" cy="1981080"/>
            <a:chOff x="5791320" y="3124080"/>
            <a:chExt cx="2364480" cy="1981080"/>
          </a:xfrm>
        </p:grpSpPr>
        <p:sp>
          <p:nvSpPr>
            <p:cNvPr id="187" name=""/>
            <p:cNvSpPr/>
            <p:nvPr/>
          </p:nvSpPr>
          <p:spPr>
            <a:xfrm>
              <a:off x="5791320" y="4114800"/>
              <a:ext cx="2361960" cy="761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86400" y="358776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92160" y="4495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31240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0" y="4114800"/>
              <a:ext cx="609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>
            <a:off x="5714640" y="41148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484320" y="541656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ritical 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inc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399280" y="2368440"/>
            <a:ext cx="296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le of refra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90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30481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otal Internal Refle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581280" cy="36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angle of incidence is greater than or equal to the critical angle, all the light is internally refle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791320" y="3124080"/>
            <a:ext cx="2364480" cy="1981440"/>
            <a:chOff x="5791320" y="3124080"/>
            <a:chExt cx="2364480" cy="1981440"/>
          </a:xfrm>
        </p:grpSpPr>
        <p:sp>
          <p:nvSpPr>
            <p:cNvPr id="200" name=""/>
            <p:cNvSpPr/>
            <p:nvPr/>
          </p:nvSpPr>
          <p:spPr>
            <a:xfrm>
              <a:off x="5791320" y="4114800"/>
              <a:ext cx="2361960" cy="762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86400" y="358776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2160" y="44956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31240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8000" y="4114800"/>
              <a:ext cx="990720" cy="99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5867280" y="4114800"/>
            <a:ext cx="99072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6487200" y="541656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r t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ang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inc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24382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ight is reflected back into the new mater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5812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s you should kn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aque – light cannot pass throug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ucent – Some light passes thr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arent – all light passes thr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 can only be refracted through translucent or transparent me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tal Internal 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593640" y="1866960"/>
            <a:ext cx="382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critical angle, the refracted light is on the boundary of the two mater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angle of incidence is greater than the critical angle, no passes through to the next lay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 is internally refl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436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you calculate the critical ang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1600200" y="1981080"/>
          <a:ext cx="35812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35812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84360" y="2825640"/>
            <a:ext cx="6873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ght is traveling from a more optically dense medium to air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 and sin(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733920"/>
                <a:ext cx="2286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504800" y="5264280"/>
            <a:ext cx="62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happens to the critical angle as n gets larg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 critical angle for diamond, whose index of refraction is 2.42 to that of water, whose index of refraction is 1.3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1523880" y="3962520"/>
          <a:ext cx="31086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62520"/>
                    <a:ext cx="3108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critical angle for water, whose index of refraction is 1.3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8" name=""/>
          <p:cNvGraphicFramePr/>
          <p:nvPr/>
        </p:nvGraphicFramePr>
        <p:xfrm>
          <a:off x="1523880" y="4192560"/>
          <a:ext cx="31086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92560"/>
                    <a:ext cx="31086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critical angle for diamond, whose index of refraction is 2.4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00200" y="3124080"/>
                <a:ext cx="1828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1417680" y="4192560"/>
          <a:ext cx="332100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4192560"/>
                    <a:ext cx="33210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do diamonds spark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ing of a diamond in cros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e flat top and slanting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critical angle means light is reflected through top of st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71840" y="2590560"/>
            <a:ext cx="1219680" cy="838440"/>
            <a:chOff x="6171840" y="2590560"/>
            <a:chExt cx="1219680" cy="838440"/>
          </a:xfrm>
        </p:grpSpPr>
        <p:sp>
          <p:nvSpPr>
            <p:cNvPr id="238" name=""/>
            <p:cNvSpPr/>
            <p:nvPr/>
          </p:nvSpPr>
          <p:spPr>
            <a:xfrm>
              <a:off x="6324480" y="25909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8880" y="2590920"/>
              <a:ext cx="15264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781680" y="2743200"/>
              <a:ext cx="60984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6171840" y="2742840"/>
              <a:ext cx="6094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72200" y="25905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934320" y="182880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25909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29040" y="327672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629400" y="25905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629400" y="19047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477120" y="3048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857640" y="3124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004080" y="4578480"/>
            <a:ext cx="268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angle is greater than the critical angle, no light leaves the diamon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s – Fiber Op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3" name="Picture 4" descr="F26"/>
          <p:cNvPicPr/>
          <p:nvPr/>
        </p:nvPicPr>
        <p:blipFill>
          <a:blip r:embed="rId1"/>
          <a:stretch/>
        </p:blipFill>
        <p:spPr>
          <a:xfrm>
            <a:off x="533520" y="2513160"/>
            <a:ext cx="8358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ications - 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Picture 4" descr="F26"/>
          <p:cNvPicPr/>
          <p:nvPr/>
        </p:nvPicPr>
        <p:blipFill>
          <a:blip r:embed="rId1"/>
          <a:stretch/>
        </p:blipFill>
        <p:spPr>
          <a:xfrm>
            <a:off x="457200" y="2057400"/>
            <a:ext cx="3600360" cy="4800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F26"/>
          <p:cNvPicPr/>
          <p:nvPr/>
        </p:nvPicPr>
        <p:blipFill>
          <a:blip r:embed="rId2"/>
          <a:stretch/>
        </p:blipFill>
        <p:spPr>
          <a:xfrm>
            <a:off x="4532400" y="2057400"/>
            <a:ext cx="4078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 &amp; 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light wave encounters a change in media, some of the light will be reflected and some will pass through and be refrac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tical density is a property of a material that determines how much light will slow down in the material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refraction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causes refra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light travels from one medium to another, its speed changes and its direction of travel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ange in speed causes the change in directio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dex of Refraction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 of optical density, tells how much light will slow down in the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: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s: 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the speed of light in vacuum,        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is the speed of light in the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105520" y="3124080"/>
          <a:ext cx="12128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124080"/>
                    <a:ext cx="1212840" cy="1295640"/>
                  </a:xfrm>
                  <a:prstGeom prst="rect">
                    <a:avLst/>
                  </a:prstGeom>
                  <a:ln w="255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Values of Index of Ref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a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1.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rown glas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.5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.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diamo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2.4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complete list, see table in text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ces of Refraction for Human Ey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762200"/>
            <a:ext cx="69343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(n=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Rectangle 10"/>
          <p:cNvGraphicFramePr/>
          <p:nvPr/>
        </p:nvGraphicFramePr>
        <p:xfrm>
          <a:off x="1600200" y="3738600"/>
          <a:ext cx="228600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38600"/>
                    <a:ext cx="2286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676520" y="4876920"/>
          <a:ext cx="22860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876920"/>
                    <a:ext cx="2286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peed of light in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(n=1.3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Rectangle 10"/>
          <p:cNvGraphicFramePr/>
          <p:nvPr/>
        </p:nvGraphicFramePr>
        <p:xfrm>
          <a:off x="1600200" y="2666880"/>
          <a:ext cx="927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927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Rectangle 10"/>
          <p:cNvGraphicFramePr/>
          <p:nvPr/>
        </p:nvGraphicFramePr>
        <p:xfrm>
          <a:off x="1600200" y="3763800"/>
          <a:ext cx="22860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Rectangle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763800"/>
                    <a:ext cx="2286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92280" y="4876920"/>
          <a:ext cx="245412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2280" y="4876920"/>
                    <a:ext cx="24541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20:38:08Z</dcterms:created>
  <dc:creator>Lori Andersen</dc:creator>
  <dc:description/>
  <dc:language>en-US</dc:language>
  <cp:lastModifiedBy>YCSD</cp:lastModifiedBy>
  <dcterms:modified xsi:type="dcterms:W3CDTF">2009-05-05T16:41:50Z</dcterms:modified>
  <cp:revision>26</cp:revision>
  <dc:subject/>
  <dc:title>Refraction</dc:title>
</cp:coreProperties>
</file>